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AF6A-5732-455E-ACEF-A40DA48B4A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93C6-A708-4C12-A918-017F81F382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05A-DBF9-48E0-990B-E120F2DD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33480"/>
            <a:ext cx="822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2CE-66EE-4B47-8048-A96AC687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3348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3348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926-A951-41F3-ABFB-148B9C04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264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07560"/>
            <a:ext cx="264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07560"/>
            <a:ext cx="264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33480"/>
            <a:ext cx="264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33480"/>
            <a:ext cx="264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33480"/>
            <a:ext cx="264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7E1-A5C9-4A49-B776-31AD7813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96F0-D54F-4024-B8A3-BD69467F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0467-5226-454D-A5B5-997124F2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DF8B-1FD4-4B43-9F3E-D5B6B930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3517-6C8E-4877-9501-454BC880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CCAC-9203-4B00-97D1-7D3F9CC4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11280" y="0"/>
            <a:ext cx="673272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5FDA-9274-42A1-87C5-E9FF328E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3348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8623-703A-42B8-98E9-3440A939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CCC-B26A-4ABE-A371-7079FD4F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3348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912E-A2DB-45A5-81BB-750F8CF8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33480"/>
            <a:ext cx="822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CFCA-F137-4FD8-890C-EA09D06F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33480"/>
            <a:ext cx="822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047C-BAD7-4AFC-BD2B-B7CCE374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3348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3348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F041-EF1C-45BE-A426-7D234884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264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07560"/>
            <a:ext cx="264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07560"/>
            <a:ext cx="264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33480"/>
            <a:ext cx="264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33480"/>
            <a:ext cx="264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33480"/>
            <a:ext cx="264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EF04-C430-496A-B34D-D4C5D64C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C3E-CE31-4993-84D7-A1BB8DD7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822-EFFB-44B3-8E85-87C7366C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46C-2493-488F-9D36-C973DA3F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11280" y="0"/>
            <a:ext cx="673272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FF7-55BF-4BDF-8222-4DDA9E80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3348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4D8-60F5-4C1E-B2F0-9DA27FAC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3348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0F0-B824-4D59-A15D-83E83727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33480"/>
            <a:ext cx="8229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FB1-768D-4505-8533-0731F145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hite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81E2-40FE-4401-B21E-E8EA4A84B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i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6A7C-FB97-450F-B726-4B9B98E30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8000" y="2637000"/>
            <a:ext cx="892800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支付宝助学贷款还款应用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程演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254240"/>
            <a:ext cx="9144000" cy="4479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4076640"/>
            <a:ext cx="1692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程演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907560"/>
            <a:ext cx="8229600" cy="5218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9451" b="0"/>
          <a:stretch/>
        </p:blipFill>
        <p:spPr>
          <a:xfrm>
            <a:off x="0" y="946080"/>
            <a:ext cx="9144000" cy="5911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63880" y="3102120"/>
            <a:ext cx="169200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程演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907560"/>
            <a:ext cx="8229600" cy="521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11116" b="0"/>
          <a:stretch/>
        </p:blipFill>
        <p:spPr>
          <a:xfrm>
            <a:off x="0" y="907920"/>
            <a:ext cx="9144000" cy="567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35280" y="4869000"/>
            <a:ext cx="223200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程演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9458" b="0"/>
          <a:stretch/>
        </p:blipFill>
        <p:spPr>
          <a:xfrm>
            <a:off x="71280" y="747720"/>
            <a:ext cx="8964720" cy="6110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40360" y="6353280"/>
            <a:ext cx="169200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程演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907560"/>
            <a:ext cx="8229600" cy="5218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83358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程演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1924200"/>
            <a:ext cx="91440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6:30:31Z</dcterms:created>
  <dc:creator>伏德</dc:creator>
  <dc:description/>
  <dc:language>en-US</dc:language>
  <cp:lastModifiedBy>范明志</cp:lastModifiedBy>
  <dcterms:modified xsi:type="dcterms:W3CDTF">2012-06-13T09:50:47Z</dcterms:modified>
  <cp:revision>170</cp:revision>
  <dc:subject>网游代扣</dc:subject>
  <dc:title>幻灯片 1</dc:title>
</cp:coreProperties>
</file>